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56A-67CE-4A0C-87FC-01D0046C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A3F-C94F-4138-A4C2-795F8D2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3B8-C190-4156-B466-4B975E25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2F4-70CA-4DF1-8AA8-390C8126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5C3-19C0-4832-A621-018DF89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210-6819-4741-BAAC-6D5A5A9B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538-D612-4E1A-B1FB-F3F60FE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553-AA75-4D8B-9769-C9315B57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202-1759-4343-A7F9-2ED83F25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E31-57DB-4EEA-9D05-A68E4D3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A24-629F-4CDB-B5E2-20A02B0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DC8-0090-4364-84BA-2E21256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8E0-60CE-419C-BB7A-207AD5369812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ts-logo-izbor"/>
          <p:cNvPicPr/>
          <p:nvPr/>
        </p:nvPicPr>
        <p:blipFill>
          <a:blip r:embed="rId2"/>
          <a:stretch/>
        </p:blipFill>
        <p:spPr>
          <a:xfrm>
            <a:off x="250920" y="6237360"/>
            <a:ext cx="3051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обални барометар корупције 20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Transparency International Global corruption Barometer 20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36536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оград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цембар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grade, Dec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сак грађана о корумпира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ечна оцена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Citizens’ perception on corruption (average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6" descr=""/>
          <p:cNvPicPr/>
          <p:nvPr/>
        </p:nvPicPr>
        <p:blipFill>
          <a:blip r:embed="rId1"/>
          <a:stretch/>
        </p:blipFill>
        <p:spPr>
          <a:xfrm>
            <a:off x="284040" y="1643040"/>
            <a:ext cx="8501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сак грађана о коруп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01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упоредни приказ у региону /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ceptionon corruption -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hart 3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81565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сак грађана о корупцији- упоредни приказ са најмање корумпиран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/ Perception on corruption – comparison with least corru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353880" y="1494000"/>
            <a:ext cx="8083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сак грађана о корупцији- упоредни приказ са земљама са високом стопом корупције/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ception on corruption – comparison with most corru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hart 4" descr=""/>
          <p:cNvPicPr/>
          <p:nvPr/>
        </p:nvPicPr>
        <p:blipFill>
          <a:blip r:embed="rId1"/>
          <a:stretch/>
        </p:blipFill>
        <p:spPr>
          <a:xfrm>
            <a:off x="633240" y="1639800"/>
            <a:ext cx="78775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средно искуство грађана са корупциј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/ Direct experience with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% грађана каже да су они или неки члан њиховог домаћинства подмићивали у последњих дванаест месеци (200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18%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/ 17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 reported bribe – giving of household member in last 12 months (in GCB 2009 – 1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ултати се односе само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ктора (врста институција) и проценат се односи само на грађане који су имали контакте са тим институцијама (Образовање, правосуђе, здравство, полиција, службе које издају дозволе и региструју, пореске службе, царина) 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 reflects only corruption i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itizens being in contact with these institution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Education, judiciary, medical services, police, registry &amp; permit services, utilities, tax revenue, custom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риказу нису узети у обзир они који “нису знали” да ли су подмићивали 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know answer excluded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којим областима је долазило до давања мита (међу грађанима који су били у контакту са институцијам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What percentage of citizens being in contact with institution paid bri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2421000"/>
          <a:ext cx="8137440" cy="3313080"/>
        </p:xfrm>
        <a:graphic>
          <a:graphicData uri="http://schemas.openxmlformats.org/drawingml/2006/table">
            <a:tbl>
              <a:tblPr/>
              <a:tblGrid>
                <a:gridCol w="647640"/>
                <a:gridCol w="936720"/>
                <a:gridCol w="863640"/>
                <a:gridCol w="865080"/>
                <a:gridCol w="792360"/>
                <a:gridCol w="792000"/>
                <a:gridCol w="647640"/>
                <a:gridCol w="986040"/>
                <a:gridCol w="885600"/>
                <a:gridCol w="720720"/>
              </a:tblGrid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//////////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//////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/////////////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///////////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//////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уђ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циј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ри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етни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уналн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ст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ласти у којима грађани најчешће имају контакт са пружаоцима услу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The most contac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able Placeholder 9" descr=""/>
          <p:cNvPicPr/>
          <p:nvPr/>
        </p:nvPicPr>
        <p:blipFill>
          <a:blip r:embed="rId1"/>
          <a:stretch/>
        </p:blipFill>
        <p:spPr>
          <a:xfrm>
            <a:off x="450720" y="1590840"/>
            <a:ext cx="824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 колико случајева су грађани дали мито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/ Cases of bri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able Placeholder 5" descr=""/>
          <p:cNvPicPr/>
          <p:nvPr/>
        </p:nvPicPr>
        <p:blipFill>
          <a:blip r:embed="rId1"/>
          <a:stretch/>
        </p:blipFill>
        <p:spPr>
          <a:xfrm>
            <a:off x="450720" y="1620720"/>
            <a:ext cx="824868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кога грађани имају највише поверења у борби против коруп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Confidence in fight agains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ници вла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Government rep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овни се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Business secto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владине организ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N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Medi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ђународне ор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International organizati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Non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7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зн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on’t know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цена перцепциј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корупције по областим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/ Average perception sc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тичке парт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.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ламент/законодавст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овни секто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жавни службени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осуђ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владине организац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рска те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2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јс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2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разов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 истраживањ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/ About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parency International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сарадњи с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lup Internationa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који се спроводи већ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год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 ре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Transparency International and Gallup International since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раживање ове године спроведено у 86 држ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ериторије са укупн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1 50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спита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86 countries and territories with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1 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Србији теренски део истраживања спроведен јула 2010. на националном узорку од 10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спитаника који репрезентује целокупно становништво (централна Србија и Војводина). Истраживање је спрове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BS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ом “лицем у лице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In Serbia, research conducted in July 2010, representative sample (for central Serbia and Vojvodina), “face to face” interview of 1007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ерпцепција у регион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/ Perception in the 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hart 3" descr=""/>
          <p:cNvPicPr/>
          <p:nvPr/>
        </p:nvPicPr>
        <p:blipFill>
          <a:blip r:embed="rId1"/>
          <a:stretch/>
        </p:blipFill>
        <p:spPr>
          <a:xfrm>
            <a:off x="615960" y="1378080"/>
            <a:ext cx="79120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ажање политичке корупције у региону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 of political corruption in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Table Placeholder 5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13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јчешћи узроци мита /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of bribe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ject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353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нат грађана који су дали мито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those paying b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куства грађана у случајевима давања мит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ле вредно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области правосуђа, полиције, образовања, јавних регистара, располагања непокретностима, образовања, пореске управе, здравства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able Placeholder 5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грађана у случајевима давања мита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ле вредност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области правосуђа, полиције, образовања, јавних регистара, располагања непокретностима, образовања, пореске управе, здравств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Experience of citizens in petty corruption (judiciary, police, education, public registries, real estate, education, tax administration, health secto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able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ојој мери се ниво корупције променио у протек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 три год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Perception on changes of corrup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ject 3" descr=""/>
          <p:cNvPicPr/>
          <p:nvPr/>
        </p:nvPicPr>
        <p:blipFill>
          <a:blip r:embed="rId1"/>
          <a:stretch/>
        </p:blipFill>
        <p:spPr>
          <a:xfrm>
            <a:off x="898560" y="1628640"/>
            <a:ext cx="72356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којој мери се ниво корупције преоменио у протекле 3 године- поређење у регио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changes in last 3 years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нија очекивања грађана у погледу промене нивоа корупције за наредне 3 године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expectations of citizens related to the change of corrup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395280" y="1940040"/>
            <a:ext cx="8562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 између очекивања из 2007 и утиска о оствареном 2010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between 2007 expectations and 2010 im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се Влада бори против коруп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Assessment of current government’s actions in the fight agains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6" descr=""/>
          <p:cNvPicPr/>
          <p:nvPr/>
        </p:nvPicPr>
        <p:blipFill>
          <a:blip r:embed="rId1"/>
          <a:stretch/>
        </p:blipFill>
        <p:spPr>
          <a:xfrm>
            <a:off x="754200" y="1704960"/>
            <a:ext cx="74739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се Владе боре против корупције- упоредни прик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Government success in fight against corruption comapar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7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цена Влад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/ Assessment of the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сечна оцена учинка Владе у борби против корупције се погоршала у односу на прошлу годину (са 2,38 на 2,2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Average score for government’s activities in fight against corruption decreased (from 2.38 to 2.2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4:30:29Z</dcterms:created>
  <dc:creator>Nemanja</dc:creator>
  <dc:description/>
  <dc:language>en-US</dc:language>
  <cp:lastModifiedBy>Kancelarija</cp:lastModifiedBy>
  <dcterms:modified xsi:type="dcterms:W3CDTF">2010-12-09T11:49:51Z</dcterms:modified>
  <cp:revision>108</cp:revision>
  <dc:subject/>
  <dc:title>Глобални барометар корупције 2007</dc:title>
</cp:coreProperties>
</file>